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02C-C11B-467C-B33B-1DA46468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225-6DDE-4D38-AA1D-5309456D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B70-A192-4AF4-9D91-7D12BBDE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970-8BF9-4E3F-B624-B448879B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522F-9763-4339-AAFD-55A70A7B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4EB1-E487-4652-98BF-92A43783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0115-FFC9-45F1-8AEB-4B42CEC7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624A-C21D-4F8E-A24D-F4CF1E79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FDB9-E41E-41F9-842A-ACA29D90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4574-0882-45E9-8D29-08129B91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CEBC-DDA4-41DB-A058-373A966C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BDC-FC9A-478D-B480-C6360FCD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601C-5865-4495-A9C1-14084B18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6954-A35C-43C1-80E5-36B7A11A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5E0A-4AD5-4AEF-AC05-418F4108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2F40-13BE-4FEA-B9D1-21B81DA0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E4F5-9D24-4AD6-B595-1760DC96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E77-CBFF-4322-AFD1-D1FE0840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E8E-F12F-48DB-9A8F-A6258C7D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C8B-588B-479A-9C52-A9276216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F5D-397C-4EE6-94EF-C157E0CD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45D-E26F-4F69-8A8C-614EA596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0CE-F72D-4D21-BDEC-FFA058DD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7E0-AA6D-4DFD-8166-095D386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9CC5-C324-4B5F-ACCA-D91373D13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0D2E-4752-4E29-ABBF-D1E5029F7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hapter 17.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croevolu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large scale evolutionary patterns and processes that occur over long periods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nt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tuated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developmental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xtin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s usually occur because organisms lose their struggle for resources and thus die o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selection did not allow them to evolve to new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ass Extinction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s of time when entire ecosystems were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collapse of food chains and food w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inction was due to environments collapsing rather than natural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e ages, asteroids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loss of life leaves many holes for new organisms to evolve 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daptive Radi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olution of several different species from one common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Darwin’s 13 finches all evolved from one common species of fi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de effect is that these radiations can produce unrelated organisms that look sim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nvergent Evolu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unrelated organisms come to resemble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natural selection working on the raw materials of organisms that live in similar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sh and sea mam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dapt a streamlined figure, appendages to move through water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oevolu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 that are closely connected to one another by ecological interactions may evolv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one organism changes, the other organism will change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unctuated Equilibriu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ism is the idea that evolution occurs slowly and steadily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ed equilibrium is the idea that long, stable periods of “organism equilibrium” are interrupted by brief periods of rapi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evelopmental Gene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he hox genes, or control genes, can effect the development of characteristics in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Changes in timing of cell differentiation and gen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7:42:18Z</dcterms:created>
  <dc:creator>udsd</dc:creator>
  <dc:description/>
  <dc:language>en-US</dc:language>
  <cp:lastModifiedBy>udsd</cp:lastModifiedBy>
  <dcterms:modified xsi:type="dcterms:W3CDTF">2010-06-01T20:54:41Z</dcterms:modified>
  <cp:revision>30</cp:revision>
  <dc:subject/>
  <dc:title>PowerPoint Presentation</dc:title>
</cp:coreProperties>
</file>